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8B5-C74A-423C-B7B9-743674CE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742-807C-4E79-A8F1-CCE54A67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6FE-4175-4D00-BBC3-9D237EE9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E59-2472-4163-A313-8DED9544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5B34-6104-40D9-A042-8981F76A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B24B-C4F5-43AD-A8D9-1D138C0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4C7-9E9C-4982-B38B-2C154307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252-E9A8-4620-911C-995C16F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CF7-4430-4688-9DAB-86EF313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33B7-7E89-415D-8479-DB6E88E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8BB-BA32-4E48-8406-9684BDF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B3E-31C1-48C4-AE4A-3621135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D887-96A1-48A7-8182-53C40E2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C25F-8029-4E6C-9505-E798139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301-4A50-46DB-8861-092BA14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634-9D11-4994-95D9-A5EBD10B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F677-F5B6-40CF-A9DF-0262AA01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19CD-5177-4859-9FE8-B8217822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8B42-B200-4B13-8C75-A0EE3E33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3F35-F736-4952-B317-D0669BF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6D34-9434-4AF3-A695-54B712E0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E4B3-6161-4BBC-BC70-1B7B754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82D-7443-4935-B093-926F11C3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0A4F-6F70-4348-8973-52962FE1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9440-BFA3-41BA-8098-5701954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9E27-CAE8-4F3E-A0AF-D0412DD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C1AE-23C9-467B-9D52-F3CFE76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E024-56EF-4604-AA75-F7A83C7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90B9-6348-43E4-A8C4-FE3A1EA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4D4C-7A83-436A-8261-45C45BF8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90A8-4174-409E-85CC-91A75916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E2A8-D694-4024-9AFB-EBDE61D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2A48-00B1-4702-82AC-4878226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E10-527F-4721-A582-CD0AF08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8147-C019-4524-AB05-607E6EE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E5B96-6A1A-440F-B08B-E9A70ED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EC69-61C2-45E2-8380-F87674D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73C1-41BE-4DB1-A973-E4ACB65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9028-4C5D-48AD-95F9-46D95C5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FE73-918F-4A7C-9AD9-FBFD720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69EC-F398-4E1C-BC38-9CE6CF6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921E-CE03-4D07-BB87-15EBF208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881D-4087-4561-898E-3D3D8DC3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24D-11A3-4519-8329-FDDF0017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95B-20AC-4D68-95C2-95BD57B3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6A3-E599-4770-8A8E-04C6E7B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2CF-98B7-48B4-9426-2A58F19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C66-580B-4D23-8B67-DCF1F94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FD5-1192-437F-97CF-8CF263439B68}" type="slidenum"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E45-48D3-4F05-9D17-244D1DC38230}" type="slidenum"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D91-25D0-409A-8281-6549E3CDCF56}" type="slidenum"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4502160" y="1575360"/>
            <a:ext cx="7478640" cy="5851440"/>
          </a:xfrm>
          <a:custGeom>
            <a:avLst/>
            <a:gdLst>
              <a:gd name="textAreaLeft" fmla="*/ 0 w 7478640"/>
              <a:gd name="textAreaRight" fmla="*/ 7372080 w 7478640"/>
              <a:gd name="textAreaTop" fmla="*/ 360 h 5851440"/>
              <a:gd name="textAreaBottom" fmla="*/ 5852160 h 5851440"/>
            </a:gdLst>
            <a:ahLst/>
            <a:rect l="textAreaLeft" t="textAreaTop" r="textAreaRight" b="textAreaBottom"/>
            <a:pathLst>
              <a:path w="7477760" h="5852160">
                <a:moveTo>
                  <a:pt x="0" y="0"/>
                </a:moveTo>
                <a:lnTo>
                  <a:pt x="7264390" y="0"/>
                </a:lnTo>
                <a:lnTo>
                  <a:pt x="7477760" y="213370"/>
                </a:lnTo>
                <a:lnTo>
                  <a:pt x="7477760" y="5852160"/>
                </a:lnTo>
                <a:lnTo>
                  <a:pt x="0" y="58521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1383920" y="7622280"/>
            <a:ext cx="220680" cy="22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4040" y="827208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360 h 1481040"/>
              <a:gd name="textAreaBottom" fmla="*/ 148176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6230880" y="8845560"/>
            <a:ext cx="6773760" cy="907920"/>
          </a:xfrm>
          <a:custGeom>
            <a:avLst/>
            <a:gdLst>
              <a:gd name="textAreaLeft" fmla="*/ 0 w 6773760"/>
              <a:gd name="textAreaRight" fmla="*/ 6774120 w 6773760"/>
              <a:gd name="textAreaTop" fmla="*/ 360 h 907920"/>
              <a:gd name="textAreaBottom" fmla="*/ 908640 h 9079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1486880" y="9040680"/>
            <a:ext cx="86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E8B9-739A-4FE4-AB99-CBBFBFEB1CA8}" type="slidenum"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66400" y="0"/>
            <a:ext cx="12737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 points on the coordinate plane to solve real-world and mathematical problems.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35040" y="6553080"/>
            <a:ext cx="12128400" cy="2641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376920" indent="-37692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W.GAP.5.M.G.02 Represent real world and mathematical problems by graphing points in the first quadrant of the coordinate plane, and interpret coordinate values of points in the context of the situation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0,4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617b"/>
                </a:solidFill>
                <a:latin typeface="Calibri"/>
              </a:rPr>
              <a:t>Increasing/Decreasing/ Intervals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creasing- going up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creasing – going dow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tervals- number counting by on graph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static.howstuffworks.com/gif/tables-graphs-statistics_line-graphs-basics5_rs.gif"/>
          <p:cNvPicPr/>
          <p:nvPr/>
        </p:nvPicPr>
        <p:blipFill>
          <a:blip r:embed="rId1"/>
          <a:stretch/>
        </p:blipFill>
        <p:spPr>
          <a:xfrm>
            <a:off x="3759120" y="4724280"/>
            <a:ext cx="5578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1170432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Independent practic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7840" y="1879560"/>
            <a:ext cx="12585600" cy="68961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Using a piece of grid paper, graph the following information and answer the question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ara has saved $20.00. She earns $8 for each hour she works. If Sara saves all of her money, how much will she have after working 3 hours? 5 hours? 10 hours? Create a graph that shows the relationship between the hours Sara worked and the amount of money she has saved. What other information do you know from analyzing the graph?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761760"/>
            <a:ext cx="12369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Objective: I can graph points on a coordinate plane using real-world situations.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2760" y="434340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ET......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o think what is an integer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ow do you order integer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hare with your table group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640" y="-3301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ordinate Grid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1066320"/>
            <a:ext cx="11861640" cy="5613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coordinate grid has two perpendicular lines, or axes, labeled like number lines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horizontal axis is called the x-axis. The vertical axis is called the y-axis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point where the x-axis and y-axis intersect is called the origi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4"/>
          <a:stretch/>
        </p:blipFill>
        <p:spPr>
          <a:xfrm>
            <a:off x="6400800" y="4521240"/>
            <a:ext cx="4484520" cy="49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080" y="-74952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Ordered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2057040"/>
            <a:ext cx="12661920" cy="648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numbers on a coordinate grid are used to locate points. Each point can be identified by an ordered pair of numbers; that is, a number on the x-axis called an x-coordinate, and a number on the y-axis called a y-coordinate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Ordered pairs are written in parentheses (x-coordinate, y-coordinate). The origin is located at (0,0). Note that there is no space after the comma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1384272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ing coordinate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82400" y="1523520"/>
            <a:ext cx="12077640" cy="2845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872640" indent="-38124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location of (2,5) is shown on the coordinate grid below. The x-coordinate is 2. The y-coordinate is 5. To locate (2,5), move 2 units to the right on the x-axis and 5 units up on the y-axi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567240" y="4292640"/>
            <a:ext cx="585612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1270080"/>
            <a:ext cx="1148076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ing Coordinate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507960" y="1218960"/>
            <a:ext cx="12738240" cy="3568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order in which you write x- and y-coordinates in an ordered pair is very important. The x-coordinate always comes first, followed by the y-coordinate. As you can see in the coordinate grid below, the ordered pairs (3,4) and (4,3) refer to two different points!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686040" y="4114800"/>
            <a:ext cx="581832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3, 5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4, 2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1,6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ujillo, Leanna</dc:creator>
  <dc:description/>
  <dc:language>en-US</dc:language>
  <cp:lastModifiedBy>Clemencia Acevedo</cp:lastModifiedBy>
  <dcterms:modified xsi:type="dcterms:W3CDTF">2016-09-16T01:05:02Z</dcterms:modified>
  <cp:revision>2</cp:revision>
  <dc:subject/>
  <dc:title>Graph points on the coordinate plane to solve real-world and mathematical problems.</dc:title>
</cp:coreProperties>
</file>